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B0D-F80F-471C-92F2-A5C95FBD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976-AEFB-41DA-AA87-8B6AD0EE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732-5225-427B-8B35-3E4D46E0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068-DF31-4C1D-8AAF-AC27B85E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2A0-D386-40AF-B30E-272AA838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B0D8-2D3B-467B-8A76-A09134F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0A3-35C2-4659-A85C-166FE0D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7960-8EBC-4B37-9F1B-70FDA52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1B9-CDC4-4344-B9B3-6D5BD516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4BD1-A1B9-4FC1-BD12-14C15DB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719-026E-43EB-8742-650706B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642-03EF-4924-993C-65252C4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76F2-2A34-409F-BEA0-08F7B21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1A48-9540-49B5-B287-194CFBD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6CC1-067B-47A9-A5AD-F3F362C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86DF-218F-4422-AB91-EE18105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76C-EB0B-4B3A-A00A-9759BCFE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1F0-F6CA-4AFA-AACA-FC38B440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E81-B1F1-42DD-80BD-331B6EF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697-E07A-42EC-80D8-DFDD9FCA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635-DC8D-4196-95D2-6C3B82EA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4F6-CEF9-48DB-B579-7C4E218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1A3-6197-4238-A33D-C2FC0C5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EB8-39CF-42B0-98FF-D1C9E2F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C99-E261-4A6F-B4AE-A4C94F59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FF1-EBEC-4200-B17F-5467876C1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t Class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90920" y="3049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Seed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24080" y="1219320"/>
            <a:ext cx="2133720" cy="1143000"/>
            <a:chOff x="3124080" y="1219320"/>
            <a:chExt cx="2133720" cy="1143000"/>
          </a:xfrm>
        </p:grpSpPr>
        <p:sp>
          <p:nvSpPr>
            <p:cNvPr id="132" name=""/>
            <p:cNvSpPr/>
            <p:nvPr/>
          </p:nvSpPr>
          <p:spPr>
            <a:xfrm flipH="1">
              <a:off x="3124080" y="1219320"/>
              <a:ext cx="990720" cy="10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1219320"/>
              <a:ext cx="11430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0720" y="2286000"/>
            <a:ext cx="281916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Angiosper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flowering plant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362320"/>
            <a:ext cx="2971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Gymnosper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cone-bearing plant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pine tr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380880"/>
            <a:ext cx="312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Times New Roman"/>
              </a:rPr>
              <a:t>Angiospe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590560" y="1295280"/>
            <a:ext cx="2362320" cy="1295640"/>
            <a:chOff x="2590560" y="1295280"/>
            <a:chExt cx="2362320" cy="1295640"/>
          </a:xfrm>
        </p:grpSpPr>
        <p:sp>
          <p:nvSpPr>
            <p:cNvPr id="138" name=""/>
            <p:cNvSpPr/>
            <p:nvPr/>
          </p:nvSpPr>
          <p:spPr>
            <a:xfrm flipH="1">
              <a:off x="2590560" y="1295280"/>
              <a:ext cx="106668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57600" y="1295280"/>
              <a:ext cx="129528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990720" y="2514600"/>
            <a:ext cx="2819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Monoco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5f5f"/>
                </a:solidFill>
                <a:latin typeface="Times New Roman"/>
              </a:rPr>
              <a:t>Ex:  grass, lilies, co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590920"/>
            <a:ext cx="27432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Dico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oak tree, ro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pic>
        <p:nvPicPr>
          <p:cNvPr id="143" name="dicotseed" descr=""/>
          <p:cNvPicPr/>
          <p:nvPr/>
        </p:nvPicPr>
        <p:blipFill>
          <a:blip r:embed="rId2"/>
          <a:stretch/>
        </p:blipFill>
        <p:spPr>
          <a:xfrm>
            <a:off x="6095880" y="3124080"/>
            <a:ext cx="1503360" cy="1627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14600" y="914400"/>
            <a:ext cx="2514600" cy="4243320"/>
            <a:chOff x="2514600" y="914400"/>
            <a:chExt cx="2514600" cy="4243320"/>
          </a:xfrm>
        </p:grpSpPr>
        <p:sp>
          <p:nvSpPr>
            <p:cNvPr id="148" name=""/>
            <p:cNvSpPr/>
            <p:nvPr/>
          </p:nvSpPr>
          <p:spPr>
            <a:xfrm>
              <a:off x="2819520" y="9144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2057400"/>
              <a:ext cx="251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ne Cotyled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monocotseed" descr=""/>
            <p:cNvPicPr/>
            <p:nvPr/>
          </p:nvPicPr>
          <p:blipFill>
            <a:blip r:embed="rId3"/>
            <a:stretch/>
          </p:blipFill>
          <p:spPr>
            <a:xfrm>
              <a:off x="2895480" y="2819520"/>
              <a:ext cx="1936800" cy="23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5410080" y="914400"/>
            <a:ext cx="2895840" cy="4141800"/>
            <a:chOff x="5410080" y="914400"/>
            <a:chExt cx="2895840" cy="4141800"/>
          </a:xfrm>
        </p:grpSpPr>
        <p:sp>
          <p:nvSpPr>
            <p:cNvPr id="152" name=""/>
            <p:cNvSpPr/>
            <p:nvPr/>
          </p:nvSpPr>
          <p:spPr>
            <a:xfrm>
              <a:off x="6095880" y="914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2133720"/>
              <a:ext cx="289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wo Cotyled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dicotseed" descr=""/>
            <p:cNvPicPr/>
            <p:nvPr/>
          </p:nvPicPr>
          <p:blipFill>
            <a:blip r:embed="rId4"/>
            <a:stretch/>
          </p:blipFill>
          <p:spPr>
            <a:xfrm>
              <a:off x="5867280" y="2743200"/>
              <a:ext cx="2138400" cy="23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0" y="533520"/>
            <a:ext cx="2057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af-like structure of a plant embryo that stores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1600200"/>
            <a:ext cx="20574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762120"/>
            <a:ext cx="7086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7010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76212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90720" y="990720"/>
            <a:ext cx="2971800" cy="4181400"/>
            <a:chOff x="990720" y="990720"/>
            <a:chExt cx="2971800" cy="4181400"/>
          </a:xfrm>
        </p:grpSpPr>
        <p:sp>
          <p:nvSpPr>
            <p:cNvPr id="162" name=""/>
            <p:cNvSpPr/>
            <p:nvPr/>
          </p:nvSpPr>
          <p:spPr>
            <a:xfrm>
              <a:off x="1828800" y="990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2057400"/>
              <a:ext cx="2666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Flower Petals in Multiples of 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monocotflower" descr=""/>
            <p:cNvPicPr/>
            <p:nvPr/>
          </p:nvPicPr>
          <p:blipFill>
            <a:blip r:embed="rId2"/>
            <a:stretch/>
          </p:blipFill>
          <p:spPr>
            <a:xfrm>
              <a:off x="1295280" y="3200400"/>
              <a:ext cx="17989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4343400" y="990720"/>
            <a:ext cx="3200400" cy="4157640"/>
            <a:chOff x="4343400" y="990720"/>
            <a:chExt cx="3200400" cy="4157640"/>
          </a:xfrm>
        </p:grpSpPr>
        <p:sp>
          <p:nvSpPr>
            <p:cNvPr id="166" name=""/>
            <p:cNvSpPr/>
            <p:nvPr/>
          </p:nvSpPr>
          <p:spPr>
            <a:xfrm>
              <a:off x="5638680" y="9907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05740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Flower Petals in Multiples of 4 or 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dicotflower" descr=""/>
            <p:cNvPicPr/>
            <p:nvPr/>
          </p:nvPicPr>
          <p:blipFill>
            <a:blip r:embed="rId3"/>
            <a:stretch/>
          </p:blipFill>
          <p:spPr>
            <a:xfrm>
              <a:off x="4952880" y="3200400"/>
              <a:ext cx="1981440" cy="194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9320" y="990720"/>
            <a:ext cx="2666880" cy="4303440"/>
            <a:chOff x="1219320" y="990720"/>
            <a:chExt cx="2666880" cy="4303440"/>
          </a:xfrm>
        </p:grpSpPr>
        <p:sp>
          <p:nvSpPr>
            <p:cNvPr id="174" name=""/>
            <p:cNvSpPr/>
            <p:nvPr/>
          </p:nvSpPr>
          <p:spPr>
            <a:xfrm>
              <a:off x="1371600" y="990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2057400"/>
              <a:ext cx="2666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Parallel Leaf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monocotleaf" descr=""/>
            <p:cNvPicPr/>
            <p:nvPr/>
          </p:nvPicPr>
          <p:blipFill>
            <a:blip r:embed="rId2"/>
            <a:stretch/>
          </p:blipFill>
          <p:spPr>
            <a:xfrm>
              <a:off x="1523880" y="3352680"/>
              <a:ext cx="2057400" cy="19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3886200" y="1066680"/>
            <a:ext cx="2895480" cy="4086360"/>
            <a:chOff x="3886200" y="1066680"/>
            <a:chExt cx="2895480" cy="4086360"/>
          </a:xfrm>
        </p:grpSpPr>
        <p:sp>
          <p:nvSpPr>
            <p:cNvPr id="178" name=""/>
            <p:cNvSpPr/>
            <p:nvPr/>
          </p:nvSpPr>
          <p:spPr>
            <a:xfrm>
              <a:off x="4114800" y="1066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6200" y="1981080"/>
              <a:ext cx="2895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Net-Like Leaf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dicotleaf" descr=""/>
            <p:cNvPicPr/>
            <p:nvPr/>
          </p:nvPicPr>
          <p:blipFill>
            <a:blip r:embed="rId3"/>
            <a:stretch/>
          </p:blipFill>
          <p:spPr>
            <a:xfrm>
              <a:off x="4343400" y="3200400"/>
              <a:ext cx="1841400" cy="195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83808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98108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83808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4400" y="1066680"/>
            <a:ext cx="2514600" cy="3900600"/>
            <a:chOff x="914400" y="1066680"/>
            <a:chExt cx="2514600" cy="3900600"/>
          </a:xfrm>
        </p:grpSpPr>
        <p:sp>
          <p:nvSpPr>
            <p:cNvPr id="186" name=""/>
            <p:cNvSpPr/>
            <p:nvPr/>
          </p:nvSpPr>
          <p:spPr>
            <a:xfrm>
              <a:off x="1066680" y="106668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2057400"/>
              <a:ext cx="25146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cattered Stem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monocotstem" descr=""/>
            <p:cNvPicPr/>
            <p:nvPr/>
          </p:nvPicPr>
          <p:blipFill>
            <a:blip r:embed="rId2"/>
            <a:stretch/>
          </p:blipFill>
          <p:spPr>
            <a:xfrm>
              <a:off x="990720" y="3352680"/>
              <a:ext cx="211932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3733920" y="1066680"/>
            <a:ext cx="2895480" cy="3989520"/>
            <a:chOff x="3733920" y="1066680"/>
            <a:chExt cx="2895480" cy="3989520"/>
          </a:xfrm>
        </p:grpSpPr>
        <p:sp>
          <p:nvSpPr>
            <p:cNvPr id="190" name=""/>
            <p:cNvSpPr/>
            <p:nvPr/>
          </p:nvSpPr>
          <p:spPr>
            <a:xfrm>
              <a:off x="4114800" y="1066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33920" y="2133720"/>
              <a:ext cx="2895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ircular Stem Vei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dicotstem" descr=""/>
            <p:cNvPicPr/>
            <p:nvPr/>
          </p:nvPicPr>
          <p:blipFill>
            <a:blip r:embed="rId3"/>
            <a:stretch/>
          </p:blipFill>
          <p:spPr>
            <a:xfrm>
              <a:off x="4114800" y="3505320"/>
              <a:ext cx="20574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nocotseed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1368720" cy="1652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685800"/>
            <a:ext cx="5943600" cy="4800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5943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685800"/>
            <a:ext cx="0" cy="4800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990720"/>
            <a:ext cx="2514600" cy="3725640"/>
            <a:chOff x="838080" y="990720"/>
            <a:chExt cx="2514600" cy="3725640"/>
          </a:xfrm>
        </p:grpSpPr>
        <p:sp>
          <p:nvSpPr>
            <p:cNvPr id="198" name=""/>
            <p:cNvSpPr/>
            <p:nvPr/>
          </p:nvSpPr>
          <p:spPr>
            <a:xfrm>
              <a:off x="990720" y="990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ono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2133720"/>
              <a:ext cx="2514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Diffuse Root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monocotroot" descr=""/>
            <p:cNvPicPr/>
            <p:nvPr/>
          </p:nvPicPr>
          <p:blipFill>
            <a:blip r:embed="rId2"/>
            <a:stretch/>
          </p:blipFill>
          <p:spPr>
            <a:xfrm>
              <a:off x="1066680" y="3048120"/>
              <a:ext cx="190512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4038480" y="990720"/>
            <a:ext cx="1905120" cy="4152960"/>
            <a:chOff x="4038480" y="990720"/>
            <a:chExt cx="1905120" cy="4152960"/>
          </a:xfrm>
        </p:grpSpPr>
        <p:sp>
          <p:nvSpPr>
            <p:cNvPr id="202" name=""/>
            <p:cNvSpPr/>
            <p:nvPr/>
          </p:nvSpPr>
          <p:spPr>
            <a:xfrm>
              <a:off x="4038480" y="9907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c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4800" y="2133720"/>
              <a:ext cx="1828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apro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dicotroot" descr=""/>
            <p:cNvPicPr/>
            <p:nvPr/>
          </p:nvPicPr>
          <p:blipFill>
            <a:blip r:embed="rId3"/>
            <a:stretch/>
          </p:blipFill>
          <p:spPr>
            <a:xfrm>
              <a:off x="4114800" y="2895480"/>
              <a:ext cx="1606680" cy="224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jor Characteris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f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Pla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ukaryo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ss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7520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wall made of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ved from green algae (Protis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08600"/>
            <a:ext cx="7696440" cy="12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Circulatory System:</a:t>
            </a:r>
            <a:br>
              <a:rPr sz="42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Vascular Tissues (Veins)</a:t>
            </a:r>
            <a:endParaRPr b="0" lang="en-US" sz="35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3733920"/>
            <a:ext cx="7238880" cy="2227320"/>
            <a:chOff x="228600" y="3733920"/>
            <a:chExt cx="7238880" cy="2227320"/>
          </a:xfrm>
        </p:grpSpPr>
        <p:sp>
          <p:nvSpPr>
            <p:cNvPr id="90" name=""/>
            <p:cNvSpPr/>
            <p:nvPr/>
          </p:nvSpPr>
          <p:spPr>
            <a:xfrm>
              <a:off x="1066680" y="5257800"/>
              <a:ext cx="487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he pla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0720" y="4479840"/>
              <a:ext cx="647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rom the roots to all parts o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733920"/>
              <a:ext cx="723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Xylem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transports wat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4920" y="1981080"/>
            <a:ext cx="7086600" cy="1465560"/>
            <a:chOff x="304920" y="1981080"/>
            <a:chExt cx="7086600" cy="1465560"/>
          </a:xfrm>
        </p:grpSpPr>
        <p:sp>
          <p:nvSpPr>
            <p:cNvPr id="94" name=""/>
            <p:cNvSpPr/>
            <p:nvPr/>
          </p:nvSpPr>
          <p:spPr>
            <a:xfrm>
              <a:off x="1066680" y="2743200"/>
              <a:ext cx="624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(food) throughout the pla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198108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Phloem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transports sug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02400"/>
            <a:ext cx="76964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Reproductive Structures: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8600" y="3886200"/>
            <a:ext cx="7543800" cy="2623320"/>
            <a:chOff x="228600" y="3886200"/>
            <a:chExt cx="7543800" cy="2623320"/>
          </a:xfrm>
        </p:grpSpPr>
        <p:sp>
          <p:nvSpPr>
            <p:cNvPr id="98" name=""/>
            <p:cNvSpPr/>
            <p:nvPr/>
          </p:nvSpPr>
          <p:spPr>
            <a:xfrm>
              <a:off x="914400" y="5867280"/>
              <a:ext cx="59436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a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4400" y="518148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urrounded by a protec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4400" y="4556160"/>
              <a:ext cx="647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tored nutrients that a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600" y="388620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Seed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plant embryo an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" y="1905120"/>
            <a:ext cx="7848720" cy="2075040"/>
            <a:chOff x="228600" y="1905120"/>
            <a:chExt cx="7848720" cy="2075040"/>
          </a:xfrm>
        </p:grpSpPr>
        <p:sp>
          <p:nvSpPr>
            <p:cNvPr id="103" name=""/>
            <p:cNvSpPr/>
            <p:nvPr/>
          </p:nvSpPr>
          <p:spPr>
            <a:xfrm>
              <a:off x="1066680" y="3276720"/>
              <a:ext cx="548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ew organis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266688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apable of developing into 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90512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Spore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reproductive cel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02400"/>
            <a:ext cx="769644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Plant Reproductive Structures: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3124080"/>
            <a:ext cx="7620120" cy="2151000"/>
            <a:chOff x="380880" y="3124080"/>
            <a:chExt cx="7620120" cy="2151000"/>
          </a:xfrm>
        </p:grpSpPr>
        <p:sp>
          <p:nvSpPr>
            <p:cNvPr id="108" name=""/>
            <p:cNvSpPr/>
            <p:nvPr/>
          </p:nvSpPr>
          <p:spPr>
            <a:xfrm>
              <a:off x="1143000" y="4571640"/>
              <a:ext cx="51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&amp; dispersed by “frui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809880"/>
              <a:ext cx="693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eeds; seeds are protect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3124080"/>
              <a:ext cx="762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2.  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Flowers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– produces t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1981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otects the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66880" y="533520"/>
            <a:ext cx="203832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1143000"/>
            <a:ext cx="2209680" cy="1143000"/>
            <a:chOff x="2743200" y="1143000"/>
            <a:chExt cx="2209680" cy="1143000"/>
          </a:xfrm>
        </p:grpSpPr>
        <p:sp>
          <p:nvSpPr>
            <p:cNvPr id="114" name=""/>
            <p:cNvSpPr/>
            <p:nvPr/>
          </p:nvSpPr>
          <p:spPr>
            <a:xfrm flipH="1">
              <a:off x="2743200" y="1143000"/>
              <a:ext cx="9144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1143000"/>
              <a:ext cx="129528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219320" y="2209680"/>
            <a:ext cx="289548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Non-Vascular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Ex:  Mo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28600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Vascular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vwtfemales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957400"/>
          </a:xfrm>
          <a:prstGeom prst="rect">
            <a:avLst/>
          </a:prstGeom>
          <a:ln w="0">
            <a:noFill/>
          </a:ln>
        </p:spPr>
      </p:pic>
      <p:pic>
        <p:nvPicPr>
          <p:cNvPr id="119" name="Polytrichum.com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525780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Sphagnum.Heilman" descr=""/>
          <p:cNvPicPr/>
          <p:nvPr/>
        </p:nvPicPr>
        <p:blipFill>
          <a:blip r:embed="rId3"/>
          <a:stretch/>
        </p:blipFill>
        <p:spPr>
          <a:xfrm>
            <a:off x="0" y="28954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liverwrt" descr=""/>
          <p:cNvPicPr/>
          <p:nvPr/>
        </p:nvPicPr>
        <p:blipFill>
          <a:blip r:embed="rId4"/>
          <a:stretch/>
        </p:blipFill>
        <p:spPr>
          <a:xfrm>
            <a:off x="3352680" y="0"/>
            <a:ext cx="2895840" cy="3048120"/>
          </a:xfrm>
          <a:prstGeom prst="rect">
            <a:avLst/>
          </a:prstGeom>
          <a:ln w="0">
            <a:noFill/>
          </a:ln>
        </p:spPr>
      </p:pic>
      <p:pic>
        <p:nvPicPr>
          <p:cNvPr id="122" name="hornworts" descr=""/>
          <p:cNvPicPr/>
          <p:nvPr/>
        </p:nvPicPr>
        <p:blipFill>
          <a:blip r:embed="rId5"/>
          <a:stretch/>
        </p:blipFill>
        <p:spPr>
          <a:xfrm>
            <a:off x="5638680" y="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457200"/>
            <a:ext cx="41148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Vascular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90920" y="1295280"/>
            <a:ext cx="2133000" cy="1143000"/>
            <a:chOff x="2590920" y="1295280"/>
            <a:chExt cx="2133000" cy="1143000"/>
          </a:xfrm>
        </p:grpSpPr>
        <p:sp>
          <p:nvSpPr>
            <p:cNvPr id="125" name=""/>
            <p:cNvSpPr/>
            <p:nvPr/>
          </p:nvSpPr>
          <p:spPr>
            <a:xfrm flipH="1">
              <a:off x="2590920" y="1295280"/>
              <a:ext cx="1029600" cy="107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0520" y="1295280"/>
              <a:ext cx="110340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447920" y="2438280"/>
            <a:ext cx="23619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Seed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438280"/>
            <a:ext cx="27432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f5f5f"/>
                </a:solidFill>
                <a:latin typeface="Times New Roman"/>
              </a:rPr>
              <a:t>Seedless Pl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f5f5f"/>
                </a:solidFill>
                <a:latin typeface="Times New Roman"/>
              </a:rPr>
              <a:t>(produces spore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Times New Roman"/>
              </a:rPr>
              <a:t>Ex:  fe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r_dou_l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9:19:18Z</dcterms:created>
  <dc:creator>Type your name here</dc:creator>
  <dc:description/>
  <dc:language>en-US</dc:language>
  <cp:lastModifiedBy>Plano ISD</cp:lastModifiedBy>
  <dcterms:modified xsi:type="dcterms:W3CDTF">2005-02-17T19:36:52Z</dcterms:modified>
  <cp:revision>18</cp:revision>
  <dc:subject/>
  <dc:title>Chapters 20 &amp; 21</dc:title>
</cp:coreProperties>
</file>